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4E5-0074-4564-88A1-9ACF67AE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F1B-22C2-4472-ACD6-C5E5B1B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C76-9773-4BF8-9C70-4D39DBFF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6D7-7BA1-40C6-A19B-81B48241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7C7-330A-49EE-BD08-95360617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7D2-DC42-4DE4-A6E0-4886398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536-16B5-44A9-BCEF-F990BC5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E05-3D11-4B26-A1DA-03A210D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E86-4CF1-443C-8699-537DAC7D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D039-ACEB-4641-9C55-E10E4146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D90-410E-4318-B45C-16948F5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146-63DC-4B85-92CE-8C5E7C5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DD5-4359-40EE-808D-DD06E3F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FFE4-24A5-4DB2-8CA5-3E770B2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520-9AB9-418B-82AA-214E3FB2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751C-91AB-4152-AF15-E8D8DE50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8883-038B-4E47-A3AB-7ED4FD93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D1A-8F21-40BE-A801-2CFA40C9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C6C-854D-47DA-B588-95F513FE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476-2194-4683-A6F6-12A0932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3F6-7A59-49DF-B258-E5E05683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5F0-2001-4871-9FD0-DB93093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917-DC47-4877-917F-7610BC2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949-C96B-425A-BE3F-73A7A0E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DAEC-357A-4651-8252-53D1A4316D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A3B-C40A-43CB-9A7A-CFAF14E999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ow to Calculate your G.P.A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Data (e.g. numbers, facts) to guide how you 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= 4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 = 3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= 2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 = 1 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= 0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60200" y="365760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5880" y="25146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475"/>
                </a:solidFill>
                <a:latin typeface="Arial"/>
              </a:rPr>
              <a:t>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5160" y="40384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OT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oing the Mat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 up your G.P.A. po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 that number by the number classes you h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 grades are an ‘A’, a ‘B’ and two ‘Ds’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.P.A. points = 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# of classes =  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.P.A. = _____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28972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500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2880" y="510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29:23Z</dcterms:created>
  <dc:creator>Travis Engstrand</dc:creator>
  <dc:description/>
  <dc:language>en-US</dc:language>
  <cp:lastModifiedBy>Travis Engstrand</cp:lastModifiedBy>
  <dcterms:modified xsi:type="dcterms:W3CDTF">2010-02-02T17:30:08Z</dcterms:modified>
  <cp:revision>2</cp:revision>
  <dc:subject/>
  <dc:title>How to Calculate your G.P.A.</dc:title>
</cp:coreProperties>
</file>